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92D-DDB6-46E5-9C2A-82E2A210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89C-2454-4B93-A1AD-FE0843D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2CB-44B5-4B77-821C-26E28E23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BAC-7616-4B86-ABD3-83E26041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9B4B-FB30-41CD-AC52-3E2A25D7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A03-4E5A-4631-ABE6-74CCCBB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A00-6304-40A6-9C6D-D52BBA9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FDB-2100-4F6F-93EA-D44EB1C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A9E-2238-40AD-96AC-E376A8B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E1D-2BB5-4FE1-A039-BD3963F0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6307-22E2-49D8-A2C3-FECE05B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9F4-2AD3-46C9-8214-3E58463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C19A-F4E3-4905-9131-E0C7285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F9BD-BE6B-4AED-A33F-074A91A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76C-0764-4C85-9017-848F018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F95-D93F-49EC-AF67-3B67D949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001-0401-432C-AC34-B9E96565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5E64-F4B9-47CC-905C-63191B3A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F58B-B3D6-4091-B421-4A34BAC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6817-23BC-43F9-B1A9-E47EF069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99D1-8FE6-4A19-A332-5B1D68D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E619-D6E0-4A7B-AC82-1A90764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B7-3501-4E3E-9ABD-0AC46B6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C6BA-E431-402E-840D-4B81511B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8914-FFE8-4907-A794-92F22ED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9971-BB7E-48A4-8F18-12796BA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357A-746C-485E-8119-1316D03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BB86-DA80-4D70-AF6B-219BE35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6D2B-6C16-443C-81E5-122F8637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0455-4496-41CF-8D26-D4A9E889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B4E5-8269-46AE-9BE9-A7D01EA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799F-543F-4021-83EF-2898EDA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F7F6-014E-459F-91B8-230671B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CFE-2776-4AE0-B082-D5DCCB6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AA9D-D1BB-4EBF-BFF7-49BB74B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704C8-0AEE-4799-9803-99873DDD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BFC1-7F14-4F5C-BE30-1D1F0EC3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B3C4-9280-407C-9F85-628C3893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FC00D-0605-4318-98AB-FC0C6F1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4019-CA62-47C9-90C5-FC8686E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6C45-35D9-45D9-9123-0193A82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C510-07F6-4383-8E4B-4FC3574A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BE23-CDCB-4B13-AFCB-509E055F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500-753F-42FB-8166-43C001A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D18-8E7C-4CA6-9CE6-B44716D4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05B-68E2-4B47-AA23-4149904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8BE-D097-41DF-BC10-2CA3FC4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469-5652-439C-9533-790DA03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866-2E4F-405E-8454-5527BE6026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6E8-D136-43C8-A9E9-2D4856147F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F277-2255-4703-A34A-FEFBA49E74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2B0-D94E-45ED-89F5-9827AF8899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9040" y="2743200"/>
            <a:ext cx="8064360" cy="1468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conomic and cultural factors help America become an imperial pow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MP00640_"/>
          <p:cNvPicPr/>
          <p:nvPr/>
        </p:nvPicPr>
        <p:blipFill>
          <a:blip r:embed="rId2"/>
          <a:stretch/>
        </p:blipFill>
        <p:spPr>
          <a:xfrm>
            <a:off x="3124080" y="609480"/>
            <a:ext cx="2568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eri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ling another country politically, economically, and militar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http://www.biyokulule.com/sawiro/sawirada_waaweyn/imperialism%20cartoons1.jpg"/>
          <p:cNvPicPr/>
          <p:nvPr/>
        </p:nvPicPr>
        <p:blipFill>
          <a:blip r:embed="rId1"/>
          <a:stretch/>
        </p:blipFill>
        <p:spPr>
          <a:xfrm>
            <a:off x="4343400" y="2743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.  Three factors of Imperialism*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conom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etition among industrial n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.      Need for raw materi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.     new markets for their products (people to sell it to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.      America selling more than it was buying; increase trade/reduce tariff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t all Americans believed in imperialis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http://ts1.mm.bing.net/images/thumbnail.aspx?q=1230412453884&amp;id=af9b9f3807d3dc39013b9a332d4435b9&amp;url=http%3a%2f%2fwww.chinahush.com%2fwp-content%2fuploads%2f2010%2f10%2f6.jpg"/>
          <p:cNvPicPr/>
          <p:nvPr/>
        </p:nvPicPr>
        <p:blipFill>
          <a:blip r:embed="rId1"/>
          <a:stretch/>
        </p:blipFill>
        <p:spPr>
          <a:xfrm>
            <a:off x="4568760" y="1905120"/>
            <a:ext cx="4276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2.  Political and Military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competi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ong navy and strategic locations for refueling (pacific island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m. Alfred Mahan wanted military expansion to protect our interes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ts4.mm.bing.net/images/thumbnail.aspx?q=1341713812935&amp;id=8f6d8962ade56cb4902f91692d1df74b&amp;url=http%3a%2f%2fwww.gutenberg.org%2ffiles%2f18334%2f18334-h%2fimages%2fwn21-39.jpg"/>
          <p:cNvPicPr/>
          <p:nvPr/>
        </p:nvPicPr>
        <p:blipFill>
          <a:blip r:embed="rId2"/>
          <a:stretch/>
        </p:blipFill>
        <p:spPr>
          <a:xfrm>
            <a:off x="4448160" y="2438280"/>
            <a:ext cx="4707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3.  Racial Superiority 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Anglo-Saxonism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nglish-speaking nations had superior character, ideas, and systems of gov’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ifest destin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http://books.google.com/books?id=Jho9ySvKDr4C&amp;printsec=frontcover&amp;img=1&amp;zoom=1&amp;edge=curl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.  Why European Expansi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estment opportunities had slowed due to European infrastructure already develo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.  Matthew C. Perry and Japan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(1853)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merican businessmen want to trade with Jap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rry convinces Japan to trade with the U.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apan impressed by ships/technology/weapons and unable to compete with U.S. =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rade and Japan adopts western technology and has their own industrial r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1890, Japan has it’s own empi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 needed a pit stop to Asia/refu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mericans owned sugar pla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waii allowed for construction of Pearl Harbo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cKinley Tariff (1890)=taxes sugar on US sugar plantation ow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een Li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waii for Hawaiian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throned by planters supported by mar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placed w/ Sanford  Do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898: Hawaii formally an American territ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.  Pan-American Conference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atin America &amp; the U.S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the sale of American goods in 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ked towards peace and increase trade between US and LA countries by lowering tariff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lterior motive:  Keep Europeans out of the Western Hemisphere = Monroe Doctr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countries created Organization of American States- promotes cooperation between countries in W.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latin america population map"/>
          <p:cNvPicPr/>
          <p:nvPr/>
        </p:nvPicPr>
        <p:blipFill>
          <a:blip r:embed="rId2"/>
          <a:stretch/>
        </p:blipFill>
        <p:spPr>
          <a:xfrm>
            <a:off x="4724280" y="1600200"/>
            <a:ext cx="4046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01T19:57:29Z</dcterms:modified>
  <cp:revision>19</cp:revision>
  <dc:subject/>
  <dc:title>PowerPoint Presentation</dc:title>
</cp:coreProperties>
</file>